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8EE-2547-46D1-A6A8-76DDE13F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9DF-2DC5-425E-A686-6FF16121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6CE-83C2-4642-B879-34DAFD00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1F9-FE4B-4C2F-A8D5-4C4D9F64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A9E-17B5-4B29-91CD-1EE21AB6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E8E-03ED-4DEC-9884-89C4B7B7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F39-83CD-4286-9A2B-9775C949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AE5-BB49-46B1-9948-64C03F2D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8B8-C5F8-4709-95FB-A96BB9C1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C4F-B319-4937-99A6-048E313D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B3D-6AB2-4B4C-9ECB-41CDAE37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438-92F1-4A92-9C7B-0561F61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B62-B2DD-482E-A155-31322076E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alileo.phys.virginia.edu/classes/109N/more_stuff/Applets/ProjectileMotion/jarapplet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ile Motion in 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ing objects with a horizontal and a vertic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1025640"/>
            <a:ext cx="2016360" cy="5832360"/>
          </a:xfrm>
          <a:custGeom>
            <a:avLst/>
            <a:gdLst/>
            <a:ahLst/>
            <a:rect l="l" t="t" r="r" b="b"/>
            <a:pathLst>
              <a:path w="1814" h="2298">
                <a:moveTo>
                  <a:pt x="45" y="120"/>
                </a:moveTo>
                <a:cubicBezTo>
                  <a:pt x="45" y="173"/>
                  <a:pt x="188" y="309"/>
                  <a:pt x="181" y="438"/>
                </a:cubicBezTo>
                <a:cubicBezTo>
                  <a:pt x="174" y="567"/>
                  <a:pt x="0" y="733"/>
                  <a:pt x="0" y="892"/>
                </a:cubicBezTo>
                <a:cubicBezTo>
                  <a:pt x="0" y="1051"/>
                  <a:pt x="181" y="1217"/>
                  <a:pt x="181" y="1391"/>
                </a:cubicBezTo>
                <a:cubicBezTo>
                  <a:pt x="181" y="1565"/>
                  <a:pt x="0" y="1792"/>
                  <a:pt x="0" y="1935"/>
                </a:cubicBezTo>
                <a:cubicBezTo>
                  <a:pt x="0" y="2078"/>
                  <a:pt x="105" y="2222"/>
                  <a:pt x="181" y="2252"/>
                </a:cubicBezTo>
                <a:cubicBezTo>
                  <a:pt x="257" y="2282"/>
                  <a:pt x="386" y="2116"/>
                  <a:pt x="454" y="2116"/>
                </a:cubicBezTo>
                <a:cubicBezTo>
                  <a:pt x="522" y="2116"/>
                  <a:pt x="522" y="2259"/>
                  <a:pt x="590" y="2252"/>
                </a:cubicBezTo>
                <a:cubicBezTo>
                  <a:pt x="658" y="2245"/>
                  <a:pt x="771" y="2063"/>
                  <a:pt x="862" y="2071"/>
                </a:cubicBezTo>
                <a:cubicBezTo>
                  <a:pt x="953" y="2079"/>
                  <a:pt x="1036" y="2298"/>
                  <a:pt x="1134" y="2298"/>
                </a:cubicBezTo>
                <a:cubicBezTo>
                  <a:pt x="1232" y="2298"/>
                  <a:pt x="1354" y="2192"/>
                  <a:pt x="1452" y="2071"/>
                </a:cubicBezTo>
                <a:cubicBezTo>
                  <a:pt x="1550" y="1950"/>
                  <a:pt x="1709" y="1716"/>
                  <a:pt x="1724" y="1572"/>
                </a:cubicBezTo>
                <a:cubicBezTo>
                  <a:pt x="1739" y="1428"/>
                  <a:pt x="1527" y="1322"/>
                  <a:pt x="1542" y="1209"/>
                </a:cubicBezTo>
                <a:cubicBezTo>
                  <a:pt x="1557" y="1096"/>
                  <a:pt x="1814" y="990"/>
                  <a:pt x="1814" y="892"/>
                </a:cubicBezTo>
                <a:cubicBezTo>
                  <a:pt x="1814" y="794"/>
                  <a:pt x="1565" y="755"/>
                  <a:pt x="1542" y="619"/>
                </a:cubicBezTo>
                <a:cubicBezTo>
                  <a:pt x="1519" y="483"/>
                  <a:pt x="1731" y="150"/>
                  <a:pt x="1678" y="75"/>
                </a:cubicBezTo>
                <a:cubicBezTo>
                  <a:pt x="1625" y="0"/>
                  <a:pt x="1346" y="166"/>
                  <a:pt x="1225" y="166"/>
                </a:cubicBezTo>
                <a:cubicBezTo>
                  <a:pt x="1104" y="166"/>
                  <a:pt x="1059" y="68"/>
                  <a:pt x="953" y="75"/>
                </a:cubicBezTo>
                <a:cubicBezTo>
                  <a:pt x="847" y="82"/>
                  <a:pt x="719" y="204"/>
                  <a:pt x="590" y="211"/>
                </a:cubicBezTo>
                <a:cubicBezTo>
                  <a:pt x="461" y="218"/>
                  <a:pt x="272" y="135"/>
                  <a:pt x="181" y="120"/>
                </a:cubicBezTo>
                <a:cubicBezTo>
                  <a:pt x="90" y="105"/>
                  <a:pt x="45" y="67"/>
                  <a:pt x="45" y="1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6360" y="3500280"/>
            <a:ext cx="201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=10.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vect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2340000" y="2924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54" h="21600">
                <a:moveTo>
                  <a:pt x="12720" y="10800"/>
                </a:moveTo>
                <a:lnTo>
                  <a:pt x="26733" y="3794"/>
                </a:lnTo>
                <a:lnTo>
                  <a:pt x="26733" y="17806"/>
                </a:lnTo>
                <a:close/>
              </a:path>
            </a:pathLst>
          </a:custGeom>
          <a:solidFill>
            <a:srgbClr val="b5ab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3141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349360"/>
            <a:ext cx="20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Arial"/>
              </a:rPr>
              <a:t>bw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=15.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402920" y="3141720"/>
            <a:ext cx="1584360" cy="158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393372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ff3300"/>
                </a:solidFill>
                <a:latin typeface="Arial"/>
              </a:rPr>
              <a:t>bs</a:t>
            </a:r>
            <a:r>
              <a:rPr b="0" lang="en-CA" sz="1800" spc="-1" strike="noStrike">
                <a:solidFill>
                  <a:srgbClr val="ff3300"/>
                </a:solidFill>
                <a:latin typeface="Arial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402920" y="3141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141720"/>
            <a:ext cx="14436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557360"/>
            <a:ext cx="446580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boat is crossing a river, with its bow pointing straight to the other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t the same time, the river is pushing the boat s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far south of point A will the boat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o answ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analyze the north-south (or y) componen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ws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 can analyze the x and y directions in projectile motion separately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623736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4941720"/>
            <a:ext cx="5329440" cy="1295640"/>
          </a:xfrm>
          <a:custGeom>
            <a:avLst/>
            <a:gdLst/>
            <a:ahLst/>
            <a:rect l="l" t="t" r="r" b="b"/>
            <a:pathLst>
              <a:path w="3357" h="816">
                <a:moveTo>
                  <a:pt x="0" y="816"/>
                </a:moveTo>
                <a:cubicBezTo>
                  <a:pt x="537" y="408"/>
                  <a:pt x="1074" y="0"/>
                  <a:pt x="1633" y="0"/>
                </a:cubicBezTo>
                <a:cubicBezTo>
                  <a:pt x="2192" y="0"/>
                  <a:pt x="2774" y="408"/>
                  <a:pt x="3357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6021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547640" y="587700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4797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6021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5013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6308640"/>
            <a:ext cx="5256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2080" y="2205000"/>
            <a:ext cx="4537080" cy="1079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3432240"/>
            <a:ext cx="4537080" cy="1079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708280"/>
            <a:ext cx="1751040" cy="4224240"/>
          </a:xfrm>
          <a:custGeom>
            <a:avLst/>
            <a:gdLst/>
            <a:ahLst/>
            <a:rect l="l" t="t" r="r" b="b"/>
            <a:pathLst>
              <a:path w="1103" h="2661">
                <a:moveTo>
                  <a:pt x="0" y="0"/>
                </a:moveTo>
                <a:cubicBezTo>
                  <a:pt x="181" y="23"/>
                  <a:pt x="363" y="46"/>
                  <a:pt x="499" y="182"/>
                </a:cubicBezTo>
                <a:cubicBezTo>
                  <a:pt x="635" y="318"/>
                  <a:pt x="725" y="447"/>
                  <a:pt x="816" y="817"/>
                </a:cubicBezTo>
                <a:cubicBezTo>
                  <a:pt x="907" y="1187"/>
                  <a:pt x="1103" y="2147"/>
                  <a:pt x="1043" y="2404"/>
                </a:cubicBezTo>
                <a:cubicBezTo>
                  <a:pt x="983" y="2661"/>
                  <a:pt x="718" y="2510"/>
                  <a:pt x="454" y="23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4005360"/>
            <a:ext cx="1752840" cy="1584360"/>
          </a:xfrm>
          <a:custGeom>
            <a:avLst/>
            <a:gdLst/>
            <a:ahLst/>
            <a:rect l="l" t="t" r="r" b="b"/>
            <a:pathLst>
              <a:path w="1104" h="998">
                <a:moveTo>
                  <a:pt x="635" y="0"/>
                </a:moveTo>
                <a:cubicBezTo>
                  <a:pt x="869" y="143"/>
                  <a:pt x="1104" y="287"/>
                  <a:pt x="998" y="453"/>
                </a:cubicBezTo>
                <a:cubicBezTo>
                  <a:pt x="892" y="619"/>
                  <a:pt x="446" y="808"/>
                  <a:pt x="0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ile Motion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84200" y="2538360"/>
            <a:ext cx="5819760" cy="30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launch velocity affect the mo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mass of the object affect the mo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angle of launch affect the mo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jectile Motion app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1268280"/>
            <a:ext cx="3600360" cy="1092240"/>
          </a:xfrm>
          <a:custGeom>
            <a:avLst/>
            <a:gdLst/>
            <a:ahLst/>
            <a:rect l="l" t="t" r="r" b="b"/>
            <a:pathLst>
              <a:path w="2268" h="688">
                <a:moveTo>
                  <a:pt x="0" y="688"/>
                </a:moveTo>
                <a:cubicBezTo>
                  <a:pt x="378" y="352"/>
                  <a:pt x="756" y="16"/>
                  <a:pt x="1134" y="8"/>
                </a:cubicBezTo>
                <a:cubicBezTo>
                  <a:pt x="1512" y="0"/>
                  <a:pt x="2079" y="537"/>
                  <a:pt x="2268" y="64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22035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40480" y="2120760"/>
            <a:ext cx="492120" cy="309600"/>
          </a:xfrm>
          <a:custGeom>
            <a:avLst/>
            <a:gdLst/>
            <a:ahLst/>
            <a:rect l="l" t="t" r="r" b="b"/>
            <a:pathLst>
              <a:path w="310" h="195">
                <a:moveTo>
                  <a:pt x="99" y="143"/>
                </a:moveTo>
                <a:cubicBezTo>
                  <a:pt x="122" y="120"/>
                  <a:pt x="129" y="14"/>
                  <a:pt x="144" y="7"/>
                </a:cubicBezTo>
                <a:cubicBezTo>
                  <a:pt x="159" y="0"/>
                  <a:pt x="166" y="91"/>
                  <a:pt x="189" y="98"/>
                </a:cubicBezTo>
                <a:cubicBezTo>
                  <a:pt x="212" y="105"/>
                  <a:pt x="272" y="45"/>
                  <a:pt x="280" y="52"/>
                </a:cubicBezTo>
                <a:cubicBezTo>
                  <a:pt x="288" y="59"/>
                  <a:pt x="235" y="120"/>
                  <a:pt x="235" y="143"/>
                </a:cubicBezTo>
                <a:cubicBezTo>
                  <a:pt x="235" y="166"/>
                  <a:pt x="310" y="181"/>
                  <a:pt x="280" y="188"/>
                </a:cubicBezTo>
                <a:cubicBezTo>
                  <a:pt x="250" y="195"/>
                  <a:pt x="98" y="195"/>
                  <a:pt x="53" y="188"/>
                </a:cubicBezTo>
                <a:cubicBezTo>
                  <a:pt x="8" y="181"/>
                  <a:pt x="0" y="150"/>
                  <a:pt x="8" y="143"/>
                </a:cubicBezTo>
                <a:cubicBezTo>
                  <a:pt x="16" y="136"/>
                  <a:pt x="76" y="166"/>
                  <a:pt x="99" y="14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19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84360" y="1877760"/>
            <a:ext cx="455760" cy="39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2276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198756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20720" y="1771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V=9.0 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ile Motion in Action -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ffects the mo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ch veloc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: increased velocity = increased vertical height, increased horizontal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of the obje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except if air resistance is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laun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ow angle = decreased height, increased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per angle = increased height, decreased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9640" y="1600200"/>
          <a:ext cx="8136000" cy="4965840"/>
        </p:xfrm>
        <a:graphic>
          <a:graphicData uri="http://schemas.openxmlformats.org/drawingml/2006/table">
            <a:tbl>
              <a:tblPr/>
              <a:tblGrid>
                <a:gridCol w="2376720"/>
                <a:gridCol w="2879640"/>
                <a:gridCol w="2879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happen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x-dir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y-dir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elo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ccel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he 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987640" y="270828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 doesn’t change; it is constant and uni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270828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 slows down as projectile climbs, speeds up as it f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94480" y="393372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0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93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4005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-9.81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5661000"/>
            <a:ext cx="2017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is constant, doesn’t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573408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id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x component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to be acting independently of the 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which would land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fired horizont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an object dropped vertic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141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0720" y="31417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5080" y="29257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20720" y="3068640"/>
            <a:ext cx="2808360" cy="1657440"/>
          </a:xfrm>
          <a:custGeom>
            <a:avLst/>
            <a:gdLst/>
            <a:ahLst/>
            <a:rect l="l" t="t" r="r" b="b"/>
            <a:pathLst>
              <a:path w="1769" h="1044">
                <a:moveTo>
                  <a:pt x="0" y="0"/>
                </a:moveTo>
                <a:cubicBezTo>
                  <a:pt x="374" y="49"/>
                  <a:pt x="748" y="98"/>
                  <a:pt x="1043" y="272"/>
                </a:cubicBezTo>
                <a:cubicBezTo>
                  <a:pt x="1338" y="446"/>
                  <a:pt x="1553" y="745"/>
                  <a:pt x="1769" y="10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20720" y="3068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308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1179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31179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77080" y="288936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72608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3068640"/>
            <a:ext cx="1440" cy="1440000"/>
          </a:xfrm>
          <a:custGeom>
            <a:avLst/>
            <a:gdLst/>
            <a:ahLst/>
            <a:rect l="l" t="t" r="r" b="b"/>
            <a:pathLst>
              <a:path w="1" h="907">
                <a:moveTo>
                  <a:pt x="0" y="0"/>
                </a:moveTo>
                <a:cubicBezTo>
                  <a:pt x="0" y="0"/>
                  <a:pt x="0" y="453"/>
                  <a:pt x="0" y="90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285264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=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2637000"/>
            <a:ext cx="18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=5.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44500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lenbrook.k12.il.us/gbssci/phys/mmedia/vectors/b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ile Motion Practice on 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www.glenbrook.k12.il.us/gbssci/phys/shwave/targets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www.explorelearning.com/index.cfm?method=cResource.dspView&amp;ResourceID=6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lesson can be foun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physics-pages.wikispaces.com/Kinematics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3:05:42Z</dcterms:created>
  <dc:creator>Moira</dc:creator>
  <dc:description/>
  <dc:language>en-US</dc:language>
  <cp:lastModifiedBy>Moira</cp:lastModifiedBy>
  <dcterms:modified xsi:type="dcterms:W3CDTF">2008-09-26T05:49:53Z</dcterms:modified>
  <cp:revision>3</cp:revision>
  <dc:subject/>
  <dc:title>Projectile Motion in 2D</dc:title>
</cp:coreProperties>
</file>